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wmf" ContentType="image/x-wmf"/>
  <Override PartName="/ppt/media/image7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19.png" ContentType="image/png"/>
  <Override PartName="/ppt/media/image18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432-C954-406E-AFC5-432A8009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9D0-E1AD-4EF7-90B6-5D6005BF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00941-B26C-47F2-BF65-732D359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E3782-3712-4335-B98A-9AFBA88B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98D5B-C725-47A0-B968-AA3CCB73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B2B0A-31EB-424A-84B4-2081396E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8880C-D6FA-469F-8EC2-9FC2004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3C6B1-97BD-470D-A3B7-A38E729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08437-0FB6-4CC7-AB32-6E54C9AB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0DCDE-6DB6-4099-862D-2CDE07C9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F68C3-C403-4B66-9729-BDF0915D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C56B2-5462-4B18-A831-B22E22BC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05A-23A6-401F-8180-3BD0DE1B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DFB98-8AA3-402B-AF37-AC2B90A8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0FCC8-4B7E-4C7F-A771-2CC4C092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64858-A12E-41CD-A924-98F61ED2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CD1FB-7980-4C54-B123-50C3DC98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521E2-BB18-4FFD-807C-670D7917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0BEA9-0D4B-4355-890C-AC36FF1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24D46-0EC5-41EB-BDAF-F74559FE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FC002-C4ED-44DE-9198-D24CA04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CB1E1-ED21-4BD8-9BB0-BD0E50F2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87C7F-CDE0-47F1-92DD-56CBDD3E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1D9-D093-4251-A9E1-1E62F951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C2CB1-F82D-4359-AB1F-678CE60E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76733-2070-442D-AE99-3ED2DC18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3AF2F-59E7-49B1-B40C-0753AA0B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4AB01-22D1-45FD-B04E-15C52BE8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3DE9F-9D20-4B45-B4A1-8F10B2F3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CEEF8-0004-417D-A230-A96280DE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B70DC-BD0A-405C-B44A-E5A9E987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2C6C7-9930-419B-AA0D-8B1943A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C1030-BE3E-40AF-B065-6946FAF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9AC34-EE77-4F9C-B3EF-05A0187D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30DD-8410-4665-BE2E-24B5E08E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653B8-1573-4D12-BB57-81FE163F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B805A-F559-41AA-85D0-DF7ED1D2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75A61-D6E2-44FC-B424-6366B1D3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022E-82EE-41A0-A252-6B0709BD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0431-55FB-4A65-BD50-5228E821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2C99-2140-4F9C-A54A-45DC9A61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038B-F368-460A-92E1-D50BA4DC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4EEA-4054-4A76-84C7-F5A8B40B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5AD8-D73D-42F3-A698-6BBE2C91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9CF-BE1C-452B-97B1-93396BFE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4478-3DE1-4585-A0F8-DE6CCC9A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EE59-361E-4B1F-BAD2-07543A63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18D8-80EE-48A3-96BA-37D58D40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70CE-3F2F-4DD3-A4B6-C3BF485E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B536-92E4-43AB-806B-92716B5A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35EE-F2C3-487D-BD02-DC139A8B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3DBD5-E7BC-4696-9A49-0E650B4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945D-F872-4389-81F2-63AD57F2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A2FB-95FA-4B7F-8561-4B83BB24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8A2E-C58F-45B8-AE37-CF6FD617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C42-E53D-4FC3-BA60-D9A7218D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52CF-B1D0-4B14-9523-BA4B1AA9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F338-B0C1-4BBC-B4C0-5CF2718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255D-3C62-466F-9EBB-76CD5DAE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BEF56-3191-4AD0-B90E-F300610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3521-B2D8-46B3-9EBC-274BE07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DB62-38A4-43D0-9009-DFFF8653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CE44-A428-4501-956B-DF845288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DA48D-6149-40E5-9CC6-CBE186FB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3C7C-823A-4369-BA17-C420A3D2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A4F5-E58F-4854-ABA9-ACAA89E6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ED2-2C4D-4382-B060-6F341C35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26F0-3A62-4EF1-A6A6-28F355EE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41CAB-3E60-4FF6-8BD7-BFDA4EB9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94906-2AD6-4FEF-A350-4460D358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5BFAD-AB8B-48FD-A440-119CA07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A3E2E-69A5-46DE-82DC-681CF36E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B9D8-634A-44ED-A254-27EEAFC9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1B34-26A7-4AA6-855E-796065AB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AE8E6-E8B2-4FF4-8659-6DCA258E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D9D1-54BB-4C75-9078-6ECA1E0F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52EFC-CB5F-4560-B0EB-6C600D6C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69A-0B05-42C3-92D2-7B64BA25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54B2A-D921-4CDC-A4A0-5FF4A321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D495-53F2-492C-BB2D-B277107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D7BA-78D7-48F4-AF0C-610315BC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8C7E7-B430-42E2-8875-C203D542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52123-8AB1-4ADB-A5E3-CEBBCCC3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2426-5D41-47E0-96BF-589EF2C6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696B-8ABE-44CB-B3E3-0435C8E7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14420-9AF7-486F-B5E8-F8F087B6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81D65-0759-46E7-A382-1A3F3B60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7104-DFF1-4ECF-B0AF-DDF99F03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4F0-A360-4720-9A0E-710F209D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EA9E4-EE9E-4F4F-9F72-CB6A2C63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B7709-E2B1-40F8-9CE8-8642FC01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867AB-7AD0-4868-AE25-98BC61CF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DEFFD-E91A-4AA8-9032-70244D0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8C48-1F46-4E27-A406-22F397CF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FC2FF-CBC0-4949-887B-576A74C7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0C50-17BA-4818-8CD6-7FC8838A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8C761-A20B-4796-AAB7-C5A73EC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7F5E2-EFD2-4F37-B065-375653E2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9EB77-96CD-466A-8AEB-88BBF167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533-17A0-43E1-A0EA-C861AA81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C7D50-EC58-46B7-8607-6F0EE058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DE746-8583-4F96-A1A5-1FCC28F8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FC3EF-0C1B-43E3-8474-82FDE08F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CE66B-58A7-4A51-B451-6B929C02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B2507-1F80-42A7-9814-93C76F6B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1B960-0473-40DE-86D2-60697434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0E1A6-B392-456C-A3A0-E45588E6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93064-64BF-4BF5-B9C5-9F034242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63700-B74D-434E-A44A-F2580766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89CA1-0E20-4735-B25C-BB619A54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606-CFF7-41B4-B482-5A5023B0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16821-E32E-47A7-BD51-726575AF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F1023-E3F4-47FF-949B-F7BCDC9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D6EE3-674B-4677-9DAA-AA544AA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6B6BC-B03D-4144-B7CA-F96D66F5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4027E-8596-4FF8-B084-0076583E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A35C5-00BE-4185-B335-250BFE18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68B1-492A-4ED8-B9BC-26B8458D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9ACC2-1695-4425-B921-5B736115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D0AA4-060B-4FC1-8C8D-1EF1DE9A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4EFED-562D-4D1E-9245-B587668F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E03-F5B7-40CC-BCD8-B59269E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33DA1-E419-429D-AC12-CDA2A6BB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3B8CF-FF90-4FE3-870A-F500FC1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E4470-4382-4153-8C7B-C2769427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A7C7E-876A-4D92-9311-8FA61D39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9D584-9A3A-4102-BBE8-FAA2EFFD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CAA48-DBDD-41CD-8089-D16DD015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EE1F4-6026-454C-8D12-F619FFA4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CADBB-DFB7-4198-A0F1-A148B2A2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A3623-B889-4975-848E-6E354C09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E295F-69D7-417D-85E6-04DACDDD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04EA-2A21-4A55-A49B-0C840B9146C2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A098-D091-4573-A6D2-F68207FCBF4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F0D-D11F-4D25-8113-07DD492187B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F3E8-024C-4EAC-9244-25796F688F0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D6A-25AB-4CB0-9D8F-CFB54C2AA9B1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CC83-340C-45A1-A28C-450D83D7928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1A45-C302-427F-9AB9-CDCC094A026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6A9F-96DA-4EE5-98BE-84621228F35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996B-83D4-44DC-BE08-E038EF52DA2F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8B5E-E0BA-44FD-9226-7BAAA2E3192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D863-BB97-4CE5-A3A7-D26B6FC0002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7115040" cy="11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353e"/>
                </a:solidFill>
                <a:latin typeface="Calibri"/>
              </a:rPr>
              <a:t>Проблема одиночества в подростковом возра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643200" y="1643040"/>
            <a:ext cx="48578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4349"/>
                </a:solidFill>
                <a:latin typeface="Calibri"/>
              </a:rPr>
              <a:t>Автор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3e"/>
                </a:solidFill>
                <a:latin typeface="Calibri"/>
              </a:rPr>
              <a:t>Юрьева Екатерина, 8 а класс МОУ ЦЛП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Arial"/>
              </a:rPr>
              <a:t>Дудина Лариса Алексе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3a35"/>
                </a:solidFill>
                <a:latin typeface="Arial"/>
              </a:rPr>
              <a:t>педагог-психолог МОУ ЦЛП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5" descr="C:\Users\DNS\Pictures\Девушка-пустота.jpg"/>
          <p:cNvPicPr/>
          <p:nvPr/>
        </p:nvPicPr>
        <p:blipFill>
          <a:blip r:embed="rId1"/>
          <a:stretch/>
        </p:blipFill>
        <p:spPr>
          <a:xfrm>
            <a:off x="285840" y="2143080"/>
            <a:ext cx="292248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214200" y="6426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иболее тяжкие последствия для подростков имеет хроническое одиночество, именно оно может     привести к эмоциональным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веденческим отклонен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473a35"/>
                </a:solidFill>
                <a:latin typeface="Calibri"/>
              </a:rPr>
              <a:t>Хроническое одиночество</a:t>
            </a:r>
            <a:r>
              <a:rPr b="0" i="1" lang="ru-RU" sz="2800" spc="-1" strike="noStrike">
                <a:solidFill>
                  <a:srgbClr val="473a35"/>
                </a:solidFill>
                <a:latin typeface="Calibri"/>
              </a:rPr>
              <a:t> характеризуется отсутствием у человека удовлетворительного общения, в результате чего он страдает от своей обособленности</a:t>
            </a:r>
            <a:r>
              <a:rPr b="0" i="1" lang="ru-RU" sz="2400" spc="-1" strike="noStrike">
                <a:solidFill>
                  <a:srgbClr val="473a35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14200" y="64260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зуя одиночество как психологическое состояние, следует сказать о том, что оно связано, прежде всего, с осознанием и переживанием человеком     своей обособленности и отдалённости от других люд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3" descr="C:\Users\DNS\Pictures\девушка под дождем.jpg"/>
          <p:cNvPicPr/>
          <p:nvPr/>
        </p:nvPicPr>
        <p:blipFill>
          <a:blip r:embed="rId1"/>
          <a:stretch/>
        </p:blipFill>
        <p:spPr>
          <a:xfrm>
            <a:off x="5715000" y="3513240"/>
            <a:ext cx="2200320" cy="28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1235880"/>
            <a:ext cx="835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ведении исследования использовали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28760" y="39290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4" descr="F:\Ромашка крупно.bmp"/>
          <p:cNvPicPr/>
          <p:nvPr/>
        </p:nvPicPr>
        <p:blipFill>
          <a:blip r:embed="rId1"/>
          <a:stretch/>
        </p:blipFill>
        <p:spPr>
          <a:xfrm>
            <a:off x="457200" y="4429080"/>
            <a:ext cx="8229600" cy="13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0" y="119160"/>
            <a:ext cx="800100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нкетный опр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ающий в себя заполнение анкеты, разработанной нами для изучения особенностей восприятия и переживания одиночества подрост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Методика диагностики уровня субъективного ощущения одиноче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Д. Рассел и М. Фергюсон)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назначена для измерения одино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Личностный опросник «НЭП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Айзенка). Предназначен для диагностики основных параметров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Методика определения коммуникативных и организаторских склонностей (КОС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Цель данной методики - определить уровень развития коммуникативных и организаторских умений и склон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Метод соци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Это - один из социально-психологических методов изучения межличностных отношений в группе на основе вы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2388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464653"/>
                </a:solidFill>
                <a:latin typeface="Cambria"/>
              </a:rPr>
              <a:t>Анкета изучения особенностей восприятия и переживания одиночества подростками</a:t>
            </a:r>
            <a:br>
              <a:rPr sz="2000"/>
            </a:b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ой причиной одиночества являет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е отторжение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: 35% опрошенных ответили, что одинокими становятся из-за других людей, так как другие не поняли, отвергли или забыли этого челове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6 % подростков видят причину одиночества в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оведении и манере общени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человека – второе место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2% подростков считают, что одинокими люди становятся из-з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ей характер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эгоизм, самовлюбленность…)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2388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Анкета изучения особенностей восприятия и переживания одиночества подростками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50012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тальные причины: застенчивость, неуверенность в себе, страх общения и неумение общаться встречаются только  в    9 % анк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утствие круга общения и близких друзей как причину одиночества рассматривают также 9 % подрост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2388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464653"/>
                </a:solidFill>
                <a:latin typeface="Cambria"/>
              </a:rPr>
              <a:t>Анкета изучения особенностей восприятия и переживания одиночества подростками</a:t>
            </a:r>
            <a:br>
              <a:rPr sz="2000"/>
            </a:b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28280"/>
            <a:ext cx="768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тя большинство опрошенных (61%) сами не любят бывать в одиночестве, но они не считают подобное времяпрепровождение ненормаль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ие из участников анкетир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65 %) иногда чувствовали себя одинокими и покинутыми, но данные подростки не испытывали страха, находясь в таком состоя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2388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464653"/>
                </a:solidFill>
                <a:latin typeface="Cambria"/>
              </a:rPr>
              <a:t>Анкета изучения особенностей восприятия и переживания одиночества подростками</a:t>
            </a:r>
            <a:br>
              <a:rPr sz="2000"/>
            </a:b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285560"/>
            <a:ext cx="86868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опрошенных подростков пребывание в одиночестве по собственному желанию представляется вполне естественным и не вызывает тревожных мыслей или стра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же время одиночество ассоциируется у них с несчастьем,  печалью и оби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ростки считают, что причины одиночества кроются как в близком окружении человека, которое не хочет его принимать, так и в нем самом (его характере, особенностях поведения, манере общ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464653"/>
                </a:solidFill>
                <a:latin typeface="Cambria"/>
              </a:rPr>
              <a:t>Методика диагностики уровня субъективного ощущения одиночества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74725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ительный результат (то есть наличие состояния одиночества) был выявлен у 6 испытуемых из 2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 группа подростков составил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периментальную групп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4 девочки, 2 мальчи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данных подростков диагностируется высокий (67%) и средний уровень одиночества (33%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464653"/>
                </a:solidFill>
                <a:latin typeface="Cambria"/>
              </a:rPr>
              <a:t>Методика диагностики уровня субъективного ощущения одиночества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357200"/>
            <a:ext cx="747252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м случайной выборки была сформирова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трольная группа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её вошли подростки, не испытывающие состояние одиночества,  в количестве 6 человек (3 девочек, 3 мальчиков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F:\зимний взгляд.bmp"/>
          <p:cNvPicPr/>
          <p:nvPr/>
        </p:nvPicPr>
        <p:blipFill>
          <a:blip r:embed="rId1"/>
          <a:stretch/>
        </p:blipFill>
        <p:spPr>
          <a:xfrm>
            <a:off x="3929040" y="4143240"/>
            <a:ext cx="5214960" cy="23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4"/>
          <p:cNvSpPr/>
          <p:nvPr/>
        </p:nvSpPr>
        <p:spPr>
          <a:xfrm>
            <a:off x="428760" y="2143080"/>
            <a:ext cx="7991280" cy="3963960"/>
          </a:xfrm>
          <a:prstGeom prst="rect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468360" y="0"/>
            <a:ext cx="7416720" cy="1341360"/>
          </a:xfrm>
          <a:prstGeom prst="rect">
            <a:avLst/>
          </a:prstGeom>
          <a:solidFill>
            <a:srgbClr val="b292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972560" cy="17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диночество – это один из видов трудных состояний. Находясь в этом состоянии, человек испытывает недостаток в общении и понимании со стороны социума, переживает тяжелый психологический кризис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28760" y="2714400"/>
            <a:ext cx="5214960" cy="37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диночество 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дин из психогенных факторов, влияющих на эмоциональное состояние человека, находящегося в измененных (непривычных) условиях изоляции от других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6" descr="F:\неясный.bmp"/>
          <p:cNvPicPr/>
          <p:nvPr/>
        </p:nvPicPr>
        <p:blipFill>
          <a:blip r:embed="rId1"/>
          <a:stretch/>
        </p:blipFill>
        <p:spPr>
          <a:xfrm>
            <a:off x="5857920" y="2428920"/>
            <a:ext cx="2357280" cy="33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9680" y="6000480"/>
            <a:ext cx="7543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262626"/>
                </a:solidFill>
                <a:latin typeface="Cambria"/>
              </a:rPr>
              <a:t>Данные, полученные по  шкале </a:t>
            </a:r>
            <a:br>
              <a:rPr sz="2000"/>
            </a:br>
            <a:r>
              <a:rPr b="0" lang="ru-RU" sz="2000" spc="-1" strike="noStrike">
                <a:solidFill>
                  <a:srgbClr val="262626"/>
                </a:solidFill>
                <a:latin typeface="Cambria"/>
              </a:rPr>
              <a:t>«Экстраверсия-интроверсия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2"/>
          <p:cNvGraphicFramePr/>
          <p:nvPr/>
        </p:nvGraphicFramePr>
        <p:xfrm>
          <a:off x="642960" y="1571760"/>
          <a:ext cx="742932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571760"/>
                    <a:ext cx="742932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1" name="Rectangle 2" descr=""/>
          <p:cNvPicPr/>
          <p:nvPr/>
        </p:nvPicPr>
        <p:blipFill>
          <a:blip r:embed="rId3"/>
          <a:stretch/>
        </p:blipFill>
        <p:spPr>
          <a:xfrm>
            <a:off x="603360" y="268200"/>
            <a:ext cx="7559640" cy="89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5480" y="450072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43" name="Picture 2" descr="C:\Users\DNS\Pictures\двое.jpg"/>
          <p:cNvPicPr/>
          <p:nvPr/>
        </p:nvPicPr>
        <p:blipFill>
          <a:blip r:embed="rId1"/>
          <a:stretch/>
        </p:blipFill>
        <p:spPr>
          <a:xfrm>
            <a:off x="5783400" y="4143240"/>
            <a:ext cx="2836800" cy="173988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0" y="180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остки контрольной группы более коммуникабельны, общительны, оптимистичны и импульсивны, чем подростки экспериментальной групп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Опросник НЭП (г. Айзенка)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622440" y="1552680"/>
          <a:ext cx="7470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552680"/>
                    <a:ext cx="7470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0" name="Rectangle 2" descr=""/>
          <p:cNvPicPr/>
          <p:nvPr/>
        </p:nvPicPr>
        <p:blipFill>
          <a:blip r:embed="rId3"/>
          <a:stretch/>
        </p:blipFill>
        <p:spPr>
          <a:xfrm>
            <a:off x="781200" y="6066000"/>
            <a:ext cx="7272360" cy="53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52" name="Picture 2" descr="C:\Users\DNS\Pictures\двое 2.jpg"/>
          <p:cNvPicPr/>
          <p:nvPr/>
        </p:nvPicPr>
        <p:blipFill>
          <a:blip r:embed="rId1"/>
          <a:stretch/>
        </p:blipFill>
        <p:spPr>
          <a:xfrm>
            <a:off x="5857920" y="4019400"/>
            <a:ext cx="3048120" cy="223524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4"/>
          <p:cNvSpPr/>
          <p:nvPr/>
        </p:nvSpPr>
        <p:spPr>
          <a:xfrm>
            <a:off x="0" y="180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дростки экспериментальной группы имеют повышенный нейротизм, по сравнению с подростками контрольной груп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99680" y="6000480"/>
            <a:ext cx="7543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262626"/>
                </a:solidFill>
                <a:latin typeface="Cambria"/>
              </a:rPr>
              <a:t>Данные, полученные  по  методике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2"/>
          <p:cNvGraphicFramePr/>
          <p:nvPr/>
        </p:nvGraphicFramePr>
        <p:xfrm>
          <a:off x="608040" y="1523880"/>
          <a:ext cx="7499160" cy="47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23880"/>
                    <a:ext cx="749916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9" name="Rectangle 2" descr=""/>
          <p:cNvPicPr/>
          <p:nvPr/>
        </p:nvPicPr>
        <p:blipFill>
          <a:blip r:embed="rId3"/>
          <a:stretch/>
        </p:blipFill>
        <p:spPr>
          <a:xfrm>
            <a:off x="603360" y="268200"/>
            <a:ext cx="7559640" cy="89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61" name="Picture 2" descr="C:\Users\DNS\Pictures\у стены.jpg"/>
          <p:cNvPicPr/>
          <p:nvPr/>
        </p:nvPicPr>
        <p:blipFill>
          <a:blip r:embed="rId1"/>
          <a:stretch/>
        </p:blipFill>
        <p:spPr>
          <a:xfrm>
            <a:off x="6286680" y="3052800"/>
            <a:ext cx="2363760" cy="31384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4"/>
          <p:cNvSpPr/>
          <p:nvPr/>
        </p:nvSpPr>
        <p:spPr>
          <a:xfrm>
            <a:off x="0" y="13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у подростков контрольной группы уровень развития коммуникативных навыков и умений в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99680" y="6000480"/>
            <a:ext cx="7543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262626"/>
                </a:solidFill>
                <a:latin typeface="Cambria"/>
              </a:rPr>
              <a:t>Данные, полученные  по  методике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Object 2"/>
          <p:cNvGraphicFramePr/>
          <p:nvPr/>
        </p:nvGraphicFramePr>
        <p:xfrm>
          <a:off x="587520" y="1496880"/>
          <a:ext cx="754056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496880"/>
                    <a:ext cx="754056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8" name="Rectangle 2" descr=""/>
          <p:cNvPicPr/>
          <p:nvPr/>
        </p:nvPicPr>
        <p:blipFill>
          <a:blip r:embed="rId3"/>
          <a:stretch/>
        </p:blipFill>
        <p:spPr>
          <a:xfrm>
            <a:off x="603360" y="268200"/>
            <a:ext cx="7559640" cy="89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70" name="Picture 2" descr="C:\Users\DNS\Pictures\Девушка-пустота.jpg"/>
          <p:cNvPicPr/>
          <p:nvPr/>
        </p:nvPicPr>
        <p:blipFill>
          <a:blip r:embed="rId1"/>
          <a:stretch/>
        </p:blipFill>
        <p:spPr>
          <a:xfrm>
            <a:off x="5929200" y="3908520"/>
            <a:ext cx="2905200" cy="234288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4"/>
          <p:cNvSpPr/>
          <p:nvPr/>
        </p:nvSpPr>
        <p:spPr>
          <a:xfrm>
            <a:off x="0" y="1836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у подростков контрольной группы социометрический статус выше, чем у подростков экспериментальной группы. Таким образом, можно говорить о зависимости между подростковым одиночеством и отрицательным отношением к подростку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14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результате исследования подтвердилась наша гипотеза, о том,  что ощущение одиночества у подростков, связано с его личностными особенностями и развитием коммуникативных ум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ыми словами, основная причина того, что подросток чувствует себя одиноким, в том, что его коммуникативные умения недостаточно развиты и он не умеет или даже не хочет общаться с теми, кто его окружает по тем или иным причин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468360" y="1628640"/>
            <a:ext cx="8351640" cy="4464360"/>
          </a:xfrm>
          <a:prstGeom prst="rect">
            <a:avLst/>
          </a:prstGeom>
          <a:solidFill>
            <a:srgbClr val="ecf1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72388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Актуальность ИССЛЕДОВАН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видна, так как переживание одиночества у подростка может перерасти в устойчивое негативное психическое состояние, накладывающее отпечаток на все остальные чувства и переживания и даже стать препятствием для личностного разви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mbria"/>
              </a:rPr>
              <a:t>Цель исследования – изучить особенности связи переживаемого одиночества с личностными особенностями подростка и его коммуникативными возможностями.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78920" y="2428920"/>
            <a:ext cx="87138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262626"/>
                </a:solidFill>
                <a:latin typeface="Calibri"/>
              </a:rPr>
              <a:t>Объект исследования:  </a:t>
            </a: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проблема одиночества в подростковом возраст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26"/>
                </a:solidFill>
                <a:latin typeface="Calibri"/>
              </a:rPr>
              <a:t>Предметом исследования </a:t>
            </a: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являютс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личностные особенности и коммуникативные качества подростков,  испытывающих одиночес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468360" y="1628640"/>
            <a:ext cx="8351640" cy="4464360"/>
          </a:xfrm>
          <a:prstGeom prst="rect">
            <a:avLst/>
          </a:prstGeom>
          <a:solidFill>
            <a:srgbClr val="ecf1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72388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64653"/>
                </a:solidFill>
                <a:latin typeface="Cambria"/>
              </a:rPr>
              <a:t>ГИПОТЕЗА   исследования -</a:t>
            </a:r>
            <a:endParaRPr b="0" lang="en-US" sz="31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ростки, испытывающие состояние одиночества, обладают определёнными личностными качествами и особенностями общения, которые вызывают данное состоя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13840" y="356760"/>
            <a:ext cx="847260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На материале анализа литературных данных и данных исследования изучить особенности переживаний одиночества у подрост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Проанализировать связь переживания одиночества с личностными особенностями подростков и их коммуникативными возможн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С целью психологической поддержки подростков, переживающих одиночество, подобрать материалы для буклета, помогающие им выявить позитивные стороны одиночества, способствующие их личностному развит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4200" y="214200"/>
            <a:ext cx="82296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торы, способствующие  одиночеству в подростковом возрас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Схема 3" descr=""/>
          <p:cNvPicPr/>
          <p:nvPr/>
        </p:nvPicPr>
        <p:blipFill>
          <a:blip r:embed="rId1"/>
          <a:stretch/>
        </p:blipFill>
        <p:spPr>
          <a:xfrm>
            <a:off x="1523880" y="1852560"/>
            <a:ext cx="6235920" cy="40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14200" y="214200"/>
            <a:ext cx="82296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яют так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Схема 3" descr=""/>
          <p:cNvPicPr/>
          <p:nvPr/>
        </p:nvPicPr>
        <p:blipFill>
          <a:blip r:embed="rId1"/>
          <a:stretch/>
        </p:blipFill>
        <p:spPr>
          <a:xfrm>
            <a:off x="1511280" y="1371600"/>
            <a:ext cx="6132600" cy="41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4349"/>
                </a:solidFill>
                <a:latin typeface="Cambria"/>
              </a:rPr>
              <a:t>Принято выделять 3 типа одиночеств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09" name="Рисунок SmartArt 4" descr=""/>
          <p:cNvPicPr/>
          <p:nvPr/>
        </p:nvPicPr>
        <p:blipFill>
          <a:blip r:embed="rId1"/>
          <a:stretch/>
        </p:blipFill>
        <p:spPr>
          <a:xfrm>
            <a:off x="450720" y="1620720"/>
            <a:ext cx="8352000" cy="451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2:02:19Z</dcterms:created>
  <dc:creator>User</dc:creator>
  <dc:description/>
  <dc:language>en-US</dc:language>
  <cp:lastModifiedBy>Дудина</cp:lastModifiedBy>
  <dcterms:modified xsi:type="dcterms:W3CDTF">2010-01-30T07:58:27Z</dcterms:modified>
  <cp:revision>109</cp:revision>
  <dc:subject/>
  <dc:title>Слайд 1</dc:title>
</cp:coreProperties>
</file>